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AD38-081F-4FDC-9A25-62B2B7E4A6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237D-7B41-46BE-8221-49BE5858B9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A155-6F30-4C78-BDF3-C02755C63D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5821-A2B6-479B-B82C-576AC7609D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66E3-5C03-43AD-9F08-45E5FE79E6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518F-59F7-4833-B656-1CDBB564FD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F365-0EAA-40F5-8573-97163CF226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2AF0-BD6E-4E51-9FF8-F0B4568F17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9D53-D2BC-43A7-9BF6-52C174B7AD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FB21-AD71-4B66-9168-2A7C32DDD4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5B12-89C5-4C96-9379-C6F853B521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7190-2B6D-43A0-AC5F-883EA5E10E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4D48-FB82-46F0-B46D-ED8BC36F1C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610F-ECEF-4534-8B48-ED4695282A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903C-53BE-43BF-A41A-EC1E75499A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2D70-1591-4A05-B166-286FEB025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9496-9ED2-4E4A-A517-004ABEE8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433B-27FE-4334-A9DC-3EA87C8DE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AFD3-FF22-4A74-9A62-9F1F42CE4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10A7-C6CD-4FCC-85AF-F69923308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C014-BDB3-4ED3-A90F-F6652A9A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660E-93C7-4D07-B2E0-D606FFE3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4C2B-5EEA-4912-8AD6-9C27574D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DC2C2-AFF8-441D-BC71-58BF0129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45580-95B4-4804-B5BF-0AEC1E9D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E350-8C2C-492D-A8C4-9261F2C1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E7C2-DCE3-4FF8-9A2B-7ACF78F3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CFEEE-1B02-4AE0-A654-A93DE744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B32B-5208-4399-94C3-96DCAA3F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CFCC-C4B3-44C7-9DC0-17B19200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CA0F-70AE-4EAC-A753-8B32A7BBF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E9B6-FF61-4036-8573-B06E6F665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C54512-D3A3-459C-A42A-72127D563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88C59D-AD72-4A5A-859E-523B0051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18ADBD-A71B-4264-A88C-4C6FCD11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7CF046-BA8D-43BB-8A76-EAE5D36C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A83E6A-3323-4C52-B861-0714992B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BD20-211F-4B10-A50E-4663A52C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7FEB11-E366-4052-9FD9-60F2C537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7CD124-EFAD-4472-889F-BB898FA7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8F1573-3A5A-4EF7-8EDA-93E28265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8BFACB-DAC4-4F41-B685-203E54FF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930B11-DCF1-48A6-84D3-FCE3ABAA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18BD10-4438-4019-AF84-5BA82293F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759F1C-990D-46A1-B838-FD37C1894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F555F5-829E-4747-801D-813A9B497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9C379B-65E4-4270-BEC6-6F0D577C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2D0F8F-E30F-4354-88D9-3560AE60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D3DD-A8B6-4602-A61C-DB3A9ACB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52960A-0B57-44F4-AF53-672A45A7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BFFA2F-B657-4E13-BA96-68A2A28C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067C16-7095-4AFF-AC90-872073C0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497776-69A1-4C8E-9635-D586C77E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50C74A-39E7-4179-8EE4-5A44CCDE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9D9D7B-BB42-4B29-9EFE-9AA59FC5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ABE0CA-CFC2-4F80-8B84-2B4D6BFF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A785CA-0E0D-4B1F-95E8-7BCC1E28B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CDBF74-7B84-4F03-A3F2-4D83D4A0D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76BF33-5B7D-45C2-B587-66D4991C7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A8D2-62F4-4AE6-8DAE-04C79A00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225473-E531-4C93-B796-83EDBE1B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9F6AF3-5A74-4AE1-A065-0D0B3226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A0F338-870A-45D6-8816-CD750383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CF6871-F701-4AE1-A3B8-D024745B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47C4AC-9C5C-49E5-954D-FC063174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B496A1-C4B7-432B-93CB-3F833C18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553D27-0B84-40AA-AB3A-2844882A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729143-AB32-45A2-B8AB-44B8E537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67DBCF-5E74-42A4-A35E-6B67A90C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A2EAC3-9F1F-47D2-8822-2D9386F81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A44E-12E8-47B3-8584-18993DD9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A45849-916E-46A1-8960-C2D3CE240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9350B-95E3-4B88-A321-2DB61C6A0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99439-98B8-40E5-B6B9-4B05C9E6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48B51-CC3F-4BC7-8D1A-0D5E7A27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EE94D-5DFD-44EB-8415-C7129FD8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81506-5B5C-460A-88FB-4F54E5C9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33EDD-57C7-4817-9E79-4299BE8B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C679F-B1CE-42E3-9D36-336AAFDE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68EBB-EAA5-4EC3-A63A-589B831B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79B6B-D6C6-43FE-B17C-52A9B2BA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AACE-B6C6-4CE8-86F2-73B171FA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B1BC5-B94C-4AAE-9843-33F0D85E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90C80-648B-44D4-B599-2D00FEC34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F9CE1-56F8-4B1B-B4D0-55556BC27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8C7426-0124-4B37-93AE-07E6679DB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BA8078-B7E5-45D4-A797-9EFE445D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094695-2E1F-4695-A0F8-92DC80EC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5F49BA-3C95-41E7-9906-F52DFE91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C5CCC5-4213-4D7D-B490-F0DC9016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9F5585-3595-4717-B87C-ED8F78F1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467480-66EB-47EB-B188-FF6187BC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8C89-CD36-456B-A461-DF68F505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E0F3B0-8DF2-4F23-A3E1-BCC1BDE9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03775C-4FBF-4730-922B-A3F6B9C2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72D940-C7F1-4A5F-B194-046D01F8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5372E2-10DB-433C-B0C4-81624898D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AB874C-BA29-4913-B425-2AEE91B9B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8F389-DDD8-4E4B-91DB-03EAD04D8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D4FEE-3750-46BA-B252-FE699956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99A34-B50E-49DE-A80A-D5923846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E83FF-E092-4082-9A25-FA66346F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87963-FA17-4490-A585-649CB445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FF8A-0E12-41A9-A17D-9C4F82A0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33D08-F501-459D-9990-CB494C75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EA6CA-24D2-424A-AD19-9C0026C0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F7281-DF1B-42F2-B0D8-273EF184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70532-EEC0-4778-894F-6E19AB1E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D100D-E3AD-4971-8897-C5286F93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7C112-D4ED-4D0B-AD08-5BE8FF9DB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1EC29-DFAC-4BFF-B87F-C824E71BA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ddddd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6969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A812-242E-4FEE-A2C7-5DA39E81143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ddddd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6969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3DD2-AE0C-40E3-8E32-765654512BB2}" type="slidenum">
              <a:rPr b="1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ddddd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6969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D4E1-7149-4D2F-BD76-F43F8D058F9A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ddddd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6969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2DEC-9323-4B98-87AB-0516CE97F75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ddddd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6969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9421-A8B1-491D-8FDF-DB7598C39CC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ddddd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6969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9F49-CE30-4621-ADA2-024C3449C401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ddddd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6969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66E5-D3E1-41DB-BB56-B7768CE1C65B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ddddd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6969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DE93-1B27-413E-9755-6E1A8631BA0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4"/>
          <p:cNvSpPr/>
          <p:nvPr/>
        </p:nvSpPr>
        <p:spPr>
          <a:xfrm>
            <a:off x="1572480" y="2971800"/>
            <a:ext cx="6041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w Cen MT"/>
              </a:rPr>
              <a:t>Members:</a:t>
            </a:r>
            <a:br>
              <a:rPr sz="3200"/>
            </a:br>
            <a:r>
              <a:rPr b="0" lang="en-US" sz="3200" spc="-1" strike="noStrike">
                <a:solidFill>
                  <a:srgbClr val="7030a0"/>
                </a:solidFill>
                <a:latin typeface="Tw Cen MT"/>
              </a:rPr>
              <a:t>Jesille Vir Hoylar</a:t>
            </a:r>
            <a:br>
              <a:rPr sz="3200"/>
            </a:br>
            <a:r>
              <a:rPr b="0" lang="en-US" sz="3200" spc="-1" strike="noStrike">
                <a:solidFill>
                  <a:srgbClr val="7030a0"/>
                </a:solidFill>
                <a:latin typeface="Tw Cen MT"/>
              </a:rPr>
              <a:t>Mark Jason Sierras</a:t>
            </a:r>
            <a:br>
              <a:rPr sz="3200"/>
            </a:br>
            <a:r>
              <a:rPr b="0" lang="en-US" sz="3200" spc="-1" strike="noStrike">
                <a:solidFill>
                  <a:srgbClr val="7030a0"/>
                </a:solidFill>
                <a:latin typeface="Tw Cen MT"/>
              </a:rPr>
              <a:t>Maria Teresa Louise Tumamp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5"/>
          <p:cNvSpPr/>
          <p:nvPr/>
        </p:nvSpPr>
        <p:spPr>
          <a:xfrm>
            <a:off x="1176840" y="1676520"/>
            <a:ext cx="7090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0a0"/>
                </a:solidFill>
                <a:latin typeface="Tw Cen MT"/>
              </a:rPr>
              <a:t>Group 5 Present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Tw Cen MT"/>
              </a:rPr>
              <a:t>MANGANESE IS MORE ABUNDANT IN THE THREE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76212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Manganese is relatively abundant, constituting about 0.085% of the Earth's crust. Among the heavy metals, only iron is more abundant. Most manganese occurs in deposits of the oxides, hydrous oxides or carbonates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1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5331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e economist’s view varies both in price and demand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RICES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MANGANESE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=$ 3.99 per gram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PHOSPHATE 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=$ 0.00043 per gram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COAL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=$ 0.00018 per gram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DEMAND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ANGANESE     = Higher demand from industrialize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untri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HOSPHATE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= Higher demand from agricultura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untri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AL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= High demand from both industrialized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nd agricultural countri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1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10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" dur="10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2" dur="10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10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1000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1000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1000"/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1000"/>
                                        <p:tgtEl>
                                          <p:spTgt spid="3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1000"/>
                                        <p:tgtEl>
                                          <p:spTgt spid="3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7" dur="1000"/>
                                        <p:tgtEl>
                                          <p:spTgt spid="3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1000"/>
                                        <p:tgtEl>
                                          <p:spTgt spid="3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1219320" y="266652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000" spc="-1" strike="noStrike">
                <a:solidFill>
                  <a:srgbClr val="cc0099"/>
                </a:solidFill>
                <a:latin typeface="Tw Cen MT"/>
              </a:rPr>
              <a:t>Maria Teresa Louise L. Tumampil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1218960" y="45720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0a0"/>
                </a:solidFill>
                <a:latin typeface="Tw Cen MT"/>
              </a:rPr>
              <a:t>INDUSTRIALIST’S VIEW</a:t>
            </a:r>
            <a:endParaRPr b="0" lang="en-US" sz="5400" spc="-1" strike="noStrike">
              <a:solidFill>
                <a:srgbClr val="f8f8f8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612720" y="1600200"/>
            <a:ext cx="81532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From the point of view of the industrialist, mining manganese is a good business because of its abundance, high market value and big demand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482760" y="1981080"/>
            <a:ext cx="35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en.wikipedia.org/wiki/M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484200" y="1523880"/>
            <a:ext cx="449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nutrasanus.com/manganes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457200" y="24382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mbendi.com/indy/ming/mang/p0005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457200" y="28954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sciencedaily.com/articles/p/phosphat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http://theblindedeye.files.wordpress.com/2008/10/strip_coal_mining.jpg"/>
          <p:cNvPicPr/>
          <p:nvPr/>
        </p:nvPicPr>
        <p:blipFill>
          <a:blip r:embed="rId1">
            <a:lum bright="-16000"/>
          </a:blip>
          <a:stretch/>
        </p:blipFill>
        <p:spPr>
          <a:xfrm>
            <a:off x="0" y="1085760"/>
            <a:ext cx="9144000" cy="577224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30a0"/>
                </a:solidFill>
                <a:latin typeface="Tw Cen MT"/>
              </a:rPr>
              <a:t>Mining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 algn="just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is the work or business of taking minerals from the earth. A hole or tunnel is dug in the ground to take out metals, coal, salt, or other minerals. 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just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is the extraction of valuable minerals or other geological materials from the earth, usually from an ore body, vein or (coal) seam. 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2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20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Some Mining Minerals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363" name="Group 6"/>
          <p:cNvGrpSpPr/>
          <p:nvPr/>
        </p:nvGrpSpPr>
        <p:grpSpPr>
          <a:xfrm>
            <a:off x="901800" y="1676520"/>
            <a:ext cx="3135240" cy="2286000"/>
            <a:chOff x="901800" y="1676520"/>
            <a:chExt cx="3135240" cy="2286000"/>
          </a:xfrm>
        </p:grpSpPr>
        <p:pic>
          <p:nvPicPr>
            <p:cNvPr id="364" name="Picture 2" descr="http://image.made-in-china.com/2f0j00PMfQyguCJVcr/Ferro-Silicon-Manganese.jpg"/>
            <p:cNvPicPr/>
            <p:nvPr/>
          </p:nvPicPr>
          <p:blipFill>
            <a:blip r:embed="rId1"/>
            <a:stretch/>
          </p:blipFill>
          <p:spPr>
            <a:xfrm>
              <a:off x="990720" y="1676520"/>
              <a:ext cx="30463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TextBox 5"/>
            <p:cNvSpPr/>
            <p:nvPr/>
          </p:nvSpPr>
          <p:spPr>
            <a:xfrm>
              <a:off x="901800" y="3200400"/>
              <a:ext cx="3114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Papyrus"/>
                </a:rPr>
                <a:t>Manganes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9"/>
          <p:cNvGrpSpPr/>
          <p:nvPr/>
        </p:nvGrpSpPr>
        <p:grpSpPr>
          <a:xfrm>
            <a:off x="4707720" y="2590920"/>
            <a:ext cx="3188520" cy="2381400"/>
            <a:chOff x="4707720" y="2590920"/>
            <a:chExt cx="3188520" cy="2381400"/>
          </a:xfrm>
        </p:grpSpPr>
        <p:pic>
          <p:nvPicPr>
            <p:cNvPr id="367" name="Picture 4" descr="http://www.mnh.si.edu/earth/text/images/2_0_0_0/2252_screen2.jpg"/>
            <p:cNvPicPr/>
            <p:nvPr/>
          </p:nvPicPr>
          <p:blipFill>
            <a:blip r:embed="rId2"/>
            <a:stretch/>
          </p:blipFill>
          <p:spPr>
            <a:xfrm>
              <a:off x="4724280" y="2590920"/>
              <a:ext cx="3171960" cy="238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TextBox 8"/>
            <p:cNvSpPr/>
            <p:nvPr/>
          </p:nvSpPr>
          <p:spPr>
            <a:xfrm>
              <a:off x="4707720" y="4267440"/>
              <a:ext cx="3135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Papyrus"/>
                </a:rPr>
                <a:t>Phosphate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12"/>
          <p:cNvGrpSpPr/>
          <p:nvPr/>
        </p:nvGrpSpPr>
        <p:grpSpPr>
          <a:xfrm>
            <a:off x="1066680" y="4076640"/>
            <a:ext cx="2971800" cy="2781360"/>
            <a:chOff x="1066680" y="4076640"/>
            <a:chExt cx="2971800" cy="2781360"/>
          </a:xfrm>
        </p:grpSpPr>
        <p:pic>
          <p:nvPicPr>
            <p:cNvPr id="370" name="Picture 6" descr="http://library.thinkquest.org/07aug/01290/Coal.jpg"/>
            <p:cNvPicPr/>
            <p:nvPr/>
          </p:nvPicPr>
          <p:blipFill>
            <a:blip r:embed="rId3"/>
            <a:stretch/>
          </p:blipFill>
          <p:spPr>
            <a:xfrm>
              <a:off x="1066680" y="4076640"/>
              <a:ext cx="2971800" cy="27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TextBox 11"/>
            <p:cNvSpPr/>
            <p:nvPr/>
          </p:nvSpPr>
          <p:spPr>
            <a:xfrm>
              <a:off x="1864800" y="5715000"/>
              <a:ext cx="1279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Papyrus"/>
                </a:rPr>
                <a:t>Coal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1219320" y="266652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000" spc="-1" strike="noStrike">
                <a:solidFill>
                  <a:srgbClr val="cc0099"/>
                </a:solidFill>
                <a:latin typeface="Tw Cen MT"/>
              </a:rPr>
              <a:t>Jesille Vir Hoylar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1218960" y="45720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0a0"/>
                </a:solidFill>
                <a:latin typeface="Tw Cen MT"/>
              </a:rPr>
              <a:t>GEOLOGIST’S VIEW</a:t>
            </a:r>
            <a:endParaRPr b="0" lang="en-US" sz="5400" spc="-1" strike="noStrike">
              <a:solidFill>
                <a:srgbClr val="f8f8f8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http://www.pullman-museum.org/main/IndSC-MkngofSteelc1970.jpg"/>
          <p:cNvPicPr/>
          <p:nvPr/>
        </p:nvPicPr>
        <p:blipFill>
          <a:blip r:embed="rId1">
            <a:lum bright="54000"/>
          </a:blip>
          <a:stretch/>
        </p:blipFill>
        <p:spPr>
          <a:xfrm>
            <a:off x="4952880" y="1214280"/>
            <a:ext cx="4191120" cy="564372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MANGANESE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MANGANESE= </a:t>
            </a:r>
            <a:r>
              <a:rPr b="0" lang="en-PH" sz="3600" spc="-1" strike="noStrike">
                <a:solidFill>
                  <a:srgbClr val="000000"/>
                </a:solidFill>
                <a:latin typeface="Tw Cen MT"/>
              </a:rPr>
              <a:t>Manganese is used extensively to produce a variety of important alloys and to desulfurize and deoxidize steel.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1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PHOSPHATES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PH" sz="3600" spc="-1" strike="noStrike">
                <a:solidFill>
                  <a:srgbClr val="000000"/>
                </a:solidFill>
                <a:latin typeface="Tw Cen MT"/>
              </a:rPr>
              <a:t>Inorganic compounds containing phosphorous.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6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en-PH" sz="3600" spc="-1" strike="noStrike">
                <a:solidFill>
                  <a:srgbClr val="000000"/>
                </a:solidFill>
                <a:latin typeface="Tw Cen MT"/>
              </a:rPr>
              <a:t>Used in fertilizers (as plant nutrient) and in detergents (as 'builders' or water softeners)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3662280" y="4038480"/>
            <a:ext cx="54817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1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10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"/>
          <p:cNvPicPr/>
          <p:nvPr/>
        </p:nvPicPr>
        <p:blipFill>
          <a:blip r:embed="rId1">
            <a:lum bright="46000"/>
          </a:blip>
          <a:stretch/>
        </p:blipFill>
        <p:spPr>
          <a:xfrm>
            <a:off x="3505320" y="2370240"/>
            <a:ext cx="5638680" cy="448776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COAL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oal, a fossil fuel, is the largest source of energy for the generation of electricity worldwide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1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19320" y="266652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000" spc="-1" strike="noStrike">
                <a:solidFill>
                  <a:srgbClr val="cc0099"/>
                </a:solidFill>
                <a:latin typeface="Tw Cen MT"/>
              </a:rPr>
              <a:t>Mark Jason Sierras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1218960" y="45720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0a0"/>
                </a:solidFill>
                <a:latin typeface="Tw Cen MT"/>
              </a:rPr>
              <a:t>ECONOMIST’S VIEW</a:t>
            </a:r>
            <a:endParaRPr b="0" lang="en-US" sz="5400" spc="-1" strike="noStrike">
              <a:solidFill>
                <a:srgbClr val="f8f8f8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838080" y="1752480"/>
            <a:ext cx="77724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84680" indent="-184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"/>
              </a:rPr>
              <a:t>Which is more abundant among the three given minerals? Manganese, Phosphate or coal?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  <a:p>
            <a:pPr marL="184680" indent="-184680" algn="just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184680" indent="-184680" algn="just"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184680" indent="-184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  <a:p>
            <a:pPr marL="184680" indent="-184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10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10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3T11:51:31Z</dcterms:created>
  <dc:creator>admin</dc:creator>
  <dc:description/>
  <dc:language>en-US</dc:language>
  <cp:lastModifiedBy>TUMAMPIL</cp:lastModifiedBy>
  <dcterms:modified xsi:type="dcterms:W3CDTF">2010-07-10T08:47:27Z</dcterms:modified>
  <cp:revision>45</cp:revision>
  <dc:subject/>
  <dc:title>Group 5 Presentation</dc:title>
</cp:coreProperties>
</file>